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45354"/>
        <c:axId val="26561271"/>
      </c:barChart>
      <c:catAx>
        <c:axId val="31645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61271"/>
        <c:crosses val="autoZero"/>
        <c:auto val="1"/>
        <c:lblAlgn val="ctr"/>
        <c:lblOffset val="100"/>
        <c:noMultiLvlLbl val="0"/>
      </c:catAx>
      <c:valAx>
        <c:axId val="26561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45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1EA-5408-47D1-B8C8-11E4795F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7D3-F6EF-4B23-978A-74966D63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4BA-0DAE-4DA8-ABEC-B4FA8600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D43-2E10-496C-9277-58FBE9CC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E8D-81E2-46ED-9942-980B0223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6FA6-82EA-4763-8AEF-347AE333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315-8CD8-4BAD-BBEA-41FE586A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E29-A1F6-4233-B99E-E5E1891E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ECE-F888-4C13-8EE0-C00400C4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627-691B-4A68-9D1E-27D40E65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939-16FD-4A9C-BA40-F8329582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3F1-95BA-48B4-B321-DADC1321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C652F-8C82-47AC-85BF-52C0A6E68C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