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03677"/>
        <c:axId val="90714373"/>
      </c:barChart>
      <c:catAx>
        <c:axId val="21503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4373"/>
        <c:crosses val="autoZero"/>
        <c:auto val="1"/>
        <c:lblAlgn val="ctr"/>
        <c:lblOffset val="100"/>
        <c:noMultiLvlLbl val="0"/>
      </c:catAx>
      <c:valAx>
        <c:axId val="90714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3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475-D111-418F-98DC-ABF38C5E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F84-1CC7-4FC1-9B85-2E9005A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983-3D41-41D2-B013-1F0A3C79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2AC-A7C3-4B2D-B4D6-D96DD1F3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810-EE21-483A-977C-717AE9E1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C1F-DA6B-4F55-BA6E-A2A8D235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48F-7845-4FBE-B08C-1688C57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07B-D3A6-4D18-8C54-18B916E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1D2-E31B-4A6B-916B-58E5DF7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2F0-AB11-48AF-8C40-FB03C90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B65-0BF0-4185-860A-97E07C9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BFD-D588-47BE-BAA2-F8DF748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3B4B0-2986-407E-9079-D4C606271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