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61221"/>
        <c:axId val="38101490"/>
      </c:barChart>
      <c:catAx>
        <c:axId val="81261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01490"/>
        <c:crosses val="autoZero"/>
        <c:auto val="1"/>
        <c:lblAlgn val="ctr"/>
        <c:lblOffset val="100"/>
        <c:noMultiLvlLbl val="0"/>
      </c:catAx>
      <c:valAx>
        <c:axId val="38101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61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514-B3CF-4A38-8EC3-53953A9D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ED8-0ED3-4A40-B045-47777553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B3E-3393-48D9-88BA-585FF4EA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19D-77F1-4BB5-851E-C48FFA5D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151-4398-42DF-8171-30583E41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DDE-41B9-4370-99DB-2946DCA2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E24-7C46-43C0-8795-7FCA54AD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9EE-FDFF-41A1-B0F7-F2F07C4C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84A-8E7D-4DEB-ADA7-408E4E51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B63-8A15-4D34-9C2D-8BC97BC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BA8-ACAD-43D7-B999-02B2DC7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B6D-FE6C-4049-8CBE-9C10CA77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C9284-BBCB-4146-9F2E-5D7BF675C3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