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21101"/>
        <c:axId val="65806499"/>
      </c:barChart>
      <c:catAx>
        <c:axId val="93021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6499"/>
        <c:crosses val="autoZero"/>
        <c:auto val="1"/>
        <c:lblAlgn val="ctr"/>
        <c:lblOffset val="100"/>
        <c:noMultiLvlLbl val="0"/>
      </c:catAx>
      <c:valAx>
        <c:axId val="65806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1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5FD-5B0F-4B05-A12B-5439A697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5E7-D4AA-476B-9BF0-77F8206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9A6-3330-4B3E-9DF1-9F6D81BC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F27-D457-4FAD-94BF-F3BCF6C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2B5-354E-46E9-86F9-2B00C1A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618-94DB-45DA-87DD-CD0B111F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3B5-0F26-42CA-A0CA-262AE48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0A9-6280-4421-B92F-458E372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8F3-C732-443E-B880-A3C992B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592-8095-417D-B4EE-ADC5B0A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03F-0C92-461C-9076-946FA84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1D6-8057-4B56-842A-C867BD4B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CEAB0-DB2F-4CC2-BD8D-BC72CE013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