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7189"/>
        <c:axId val="18261783"/>
      </c:barChart>
      <c:catAx>
        <c:axId val="1217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61783"/>
        <c:crosses val="autoZero"/>
        <c:auto val="1"/>
        <c:lblAlgn val="ctr"/>
        <c:lblOffset val="100"/>
        <c:noMultiLvlLbl val="0"/>
      </c:catAx>
      <c:valAx>
        <c:axId val="18261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975-6770-4BCA-9E2A-E16CA6A9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1D4-C87B-4612-8E56-2FC773D5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415-3FD3-4D20-B333-FBB1444D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C6F-258A-4588-9EC9-F8FE575C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111-9A6B-475F-99AA-10CCA46C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8D2-ADE7-4765-B777-F1606614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7FA-7CF6-4D15-9152-17B22E52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E3D-06A0-48B7-B6F8-CA6D3F13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737-88E7-40E0-9A63-8C6527C9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F0B-5147-4DB3-A171-D13E9E3D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CC4-0BE8-4194-8E40-658B3430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653-6C88-4816-9D73-41279256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082E5-71B1-4EA5-B476-F4862175A5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