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8868"/>
        <c:axId val="56591527"/>
      </c:barChart>
      <c:catAx>
        <c:axId val="66738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1527"/>
        <c:crosses val="autoZero"/>
        <c:auto val="1"/>
        <c:lblAlgn val="ctr"/>
        <c:lblOffset val="100"/>
        <c:noMultiLvlLbl val="0"/>
      </c:catAx>
      <c:valAx>
        <c:axId val="56591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8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5AF-5616-42A3-9812-A43E1A7F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E0E-A5D3-499A-A471-68D0201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234-5083-44A1-93CB-B6FCA95A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FAC-3502-43FF-97CB-06D105E8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AC6-E8B7-4D9A-B98E-99F04B08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978-C747-4BE2-B243-9F9AD96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142-A182-403E-AEFD-6C98CE6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8C7-70FE-41CB-92A7-D96FCA5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52A-8EE2-42EA-B133-8016C3E9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A67-4BEC-4BB9-A10B-7072BD0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C73-4DED-4820-8C33-2080D78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810-9270-468D-8CB2-5E60037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310E1-7C68-4BA2-85D1-00FFF8D80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