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22870"/>
        <c:axId val="51919905"/>
      </c:barChart>
      <c:catAx>
        <c:axId val="50422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19905"/>
        <c:crosses val="autoZero"/>
        <c:auto val="1"/>
        <c:lblAlgn val="ctr"/>
        <c:lblOffset val="100"/>
        <c:noMultiLvlLbl val="0"/>
      </c:catAx>
      <c:valAx>
        <c:axId val="51919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22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777-EB86-4077-B274-C6206428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131-2E93-48C7-8A27-E380D8E6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BE4-B5D8-42B6-AAD4-DE30988C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3DD-78CE-43E2-9772-8B3A89C8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5B1-E64B-4947-9DB3-A5C80E70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AA0-81B8-4774-9E2D-2152C021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F92-8E52-4F78-9D30-3FE87327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17F-3C90-4314-8240-D7836586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0E8-4888-43E3-9C9B-7C15339A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6E6-7DFF-4B68-863A-6CE73D1F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DCD-2FAA-4429-A2EC-311AF0B0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E26-691A-43A2-82E5-3149C9BB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0253A-B6C1-4EB1-983A-2AD83C40D5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