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86822"/>
        <c:axId val="60040888"/>
      </c:barChart>
      <c:catAx>
        <c:axId val="24386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0888"/>
        <c:crosses val="autoZero"/>
        <c:auto val="1"/>
        <c:lblAlgn val="ctr"/>
        <c:lblOffset val="100"/>
        <c:noMultiLvlLbl val="0"/>
      </c:catAx>
      <c:valAx>
        <c:axId val="60040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6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2EA-0C56-478E-9362-A42B658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C46-197F-48A1-8E38-875FB7FC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0A6-25B7-4482-B400-F35E9B54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1EA-E8CF-484B-B826-10086E75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5F9-4AFC-4888-B82C-9B42EDFE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C14-B277-4747-AD6A-C40B0BB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306-CDEE-4B91-ADE7-B5AB9E0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FD8-BC1F-4DDB-8556-C32E1CF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733-90CB-4D11-98C7-0AAEDF1D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1E5-3643-4FB8-BF70-1F321BA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D13-C98F-4206-8B16-9FF31A7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9AD-BE66-4EFF-A1E9-C83F98F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08AD-2A30-4476-B3DC-6D74A5897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