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53348"/>
        <c:axId val="40452454"/>
      </c:barChart>
      <c:catAx>
        <c:axId val="10253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52454"/>
        <c:crosses val="autoZero"/>
        <c:auto val="1"/>
        <c:lblAlgn val="ctr"/>
        <c:lblOffset val="100"/>
        <c:noMultiLvlLbl val="0"/>
      </c:catAx>
      <c:valAx>
        <c:axId val="40452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3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60B-28B4-42C4-98E5-1635D53A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7D6-5C12-495B-9D98-3A0F764B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037-EBB2-49FB-857F-DD15F230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CFD-3EF8-40E4-BA44-E513B93B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D42-6B58-464B-A157-6EA4E46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210-3B1C-45D9-95D4-1E69BED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770-CD48-4C19-9868-6114845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5CC-F95D-42FD-9BF0-D4A29761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102-D821-4DDB-8661-6D83E20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ED8-A23F-4193-8E6E-767C469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20F-7C37-4441-8EFB-9180C98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BF7-9057-4816-90BB-FDA80C9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9E57F-7EEF-43CF-AE56-A0C3878A4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