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78819"/>
        <c:axId val="28662169"/>
      </c:barChart>
      <c:catAx>
        <c:axId val="684788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62169"/>
        <c:crosses val="autoZero"/>
        <c:auto val="1"/>
        <c:lblAlgn val="ctr"/>
        <c:lblOffset val="100"/>
        <c:noMultiLvlLbl val="0"/>
      </c:catAx>
      <c:valAx>
        <c:axId val="286621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788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53B0-3EDD-4D45-A3D3-A262A38E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1B4A-8CF2-44E3-A47D-8EC2FA05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A762-6BD4-40A5-BFE2-7D4BD925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659-DD4E-4407-945E-B0237D27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1790-6B66-43AE-8E67-93A40A97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421E-EA9F-4468-8936-03AFE60D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E348-6636-43AD-88CA-41E85C15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113B-6A05-4BC9-AC99-95A2732A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108F-180E-4C37-89DE-2D848D32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780-D7B1-4FC0-9965-B4E9DF70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5847-6B4C-4C1F-BA91-C63BEBCC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EBBC-EBE5-4368-8A0D-24E7B992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3640C-E32D-4444-B849-BDD090CB6F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